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21C4-DBC3-4BEC-8566-29F66AF56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C6F8-0691-4169-B779-F9DCF05A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59F8-5253-49B6-B5A0-0F14ECA98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50CD-F002-4494-8514-582D538B6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1CC0-46A6-4581-BD2A-45DD69AD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8444-2F43-49E9-8FAA-1C25A170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4115-9CDA-4CAA-A83D-97101E1A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A8C7-32BD-48E3-9369-846F32AB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6AD2-F6AA-41F3-BE37-BEBF5E8E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A474-8CBC-4676-8811-928034B3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1393-6CF1-40D4-957B-9EB2543B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1FCB-E7EA-4327-9F08-DDE55A61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F132-2075-4F46-A6FC-C704E333E3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5120" cy="2540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6400800" y="4724280"/>
            <a:ext cx="27432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AAMI 9P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484360" y="0"/>
            <a:ext cx="40197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pperplate Gothic Bold"/>
              </a:rPr>
              <a:t>MICHEAL LONG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pperplate Gothic Bold"/>
              <a:ea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476360" y="3160800"/>
            <a:ext cx="5543640" cy="156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MICHEAL LONG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050920" y="189000"/>
            <a:ext cx="4753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SSENDO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3564000" cy="5545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755640" y="189000"/>
            <a:ext cx="77770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ong was a pioneer against racial vilificatio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589200" y="1341000"/>
            <a:ext cx="5554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or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01.10.1969, Darwin, Australi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ruited from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St Mary’s (NT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rst EFC Game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vs. West Coast, Round 1, 198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st EFC Game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vs. Hawthorn, Preliminary Final, 2001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FC Games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190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FC Goals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143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miership player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1993, 2000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FC Captai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1999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FC Vice Captai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1996, 1998-2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3564000" cy="4680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692360" y="260280"/>
            <a:ext cx="549576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Michael Long – The Fac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417080" cy="5256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2340000" y="5950080"/>
            <a:ext cx="381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END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7T02:03:27Z</dcterms:created>
  <dc:creator>Reservoir District Secondary College</dc:creator>
  <dc:description/>
  <dc:language>en-US</dc:language>
  <cp:lastModifiedBy>Reservoir District Secondary College</cp:lastModifiedBy>
  <dcterms:modified xsi:type="dcterms:W3CDTF">2008-08-07T06:20:45Z</dcterms:modified>
  <cp:revision>4</cp:revision>
  <dc:subject/>
  <dc:title>Slide 1</dc:title>
</cp:coreProperties>
</file>